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156C-06EC-4B20-9027-FE3F5D59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558-6BDA-438F-A1A4-47255F5B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E4D6-616A-47FA-A973-7960698B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153-4F8C-44CD-A774-E042D3A1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23C35-0982-44A8-A9A0-330A441D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20220-9030-42F8-90EC-71B54573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9DCDB-6B12-44AB-A591-113CC369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3CA18-3AB5-4DAA-9816-C2679914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0799F-400F-4D06-AAF0-B4578DD0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F4399-F841-45A3-AF08-49A34F5A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B13C6-4251-4696-9B93-9CD719FD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05C1-BADB-44B9-A2B0-E94BCAAE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1C752-EF83-491A-99A5-184F6C45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EFC73-4365-440A-8A05-C1F7566F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C0673-C5ED-498E-83CC-06E79AC0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40FAD-88C9-40BE-BD55-BBB37CE9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053CC-0465-40AE-B0AD-E64F6D84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1C9C-B762-46AE-A5B9-90EC6285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881-06BD-47CB-8B0E-7E70C637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B57-BFD9-4356-AD24-72BBC0DF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7F65-0073-46C5-9372-9AD04D58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0AA0-57D7-49E7-9998-782F655C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5B8B-4D57-4376-B2E8-445FA3D5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4CE9-1F0B-4CA2-8F06-9DFF7337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0DBB-302A-43B0-B558-6E8037FAB4E3}" type="datetime3">
              <a:rPr b="0" lang="en-US" sz="1200" spc="-1" strike="noStrike">
                <a:solidFill>
                  <a:srgbClr val="ffffff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C400-D9D9-4DC2-8B88-0713B59FE3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5E99-97AF-4173-AFF5-43E3EAB3C779}" type="datetime3">
              <a:rPr b="0" lang="en-US" sz="1200" spc="-1" strike="noStrike">
                <a:solidFill>
                  <a:srgbClr val="ffffff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104C-C56E-48AD-BC20-491A335868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37960" y="1042920"/>
            <a:ext cx="8747280" cy="2157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371600" y="3197160"/>
            <a:ext cx="6400800" cy="1735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162560" cy="847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Garden of Gethsemane Jesus tells Peter, James and John to stay here and watch with 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goes further into the garden and prays, “O my Father, if it be possible, let this cup pass away from me; nevertheless let it not be as I want but as you wan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ice He returns to find Peter, James and John aslee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ird time He returns He tells them to get up and go because the one who betrays me is n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467480" cy="963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rrest of Jesus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s leads soldiers and officers from the high priest and Pharisees to the gard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s identifies Jesus with a ki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sciples ask Jesus “Lord do you want us to fight with the sword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 draws his sword and cuts off the ear o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lch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ervant of the high pri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’ disciples, seeing Him taken captive scatter and fl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934320" cy="1040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as, the previous high, questions Jesus about his disciples and about his t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responds; I have spoken openly to the world and have said nothing in secr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 those who heard what I sa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one of the officers struck Jesus with his open hand for answering the high priest in such a 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, still bound, was sent to the house of Annas, the high priest, where the Sanhedrin was gathe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nhedrin consisted of about 70 Jewish men, high priest, scribes, and the eld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uncil’s meeting at night for trial was illeg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false witnesses with conflicting testimonies were brought to testify against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543800" cy="144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848720" cy="1523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ly two men said, “This man said, ‘I am able to destroy the temple of God, and to build it in three days.’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iaphas asked Jesus, Do you have nothing to say?  But Jesus made no rep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iaphas pressed Jesus:  “I put you under oath to the living God to tell us the truth:  are you the Christ, the Son of God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nswered, 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a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the time will come when you will see the Son of Man sitting at the right hand of Power (God), and coming with clouds of heav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744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hearing Jesus declare he was the Son of God, Caiaphas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re his clot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id He blasp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need for further witn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 council for 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 on council said, “He is worthy to di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is then; spat upon, blindfolded, slapped, and reviled in many w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391520" cy="1069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 followed Jesus from af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courtyard he warms by the fire with servants and offic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ose standing around identified Peter as a follower of Chr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 denies knowing Him three times as the rooster crowed tw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ing at the Lord, he remembered Him telling him, he would deny him three 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 left the court, weeping bitter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238880" cy="1295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is taken before the Sanhedrin for a second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ice they asked Jesus, “Are you the Son of Go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nswers, “I am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uncil declares, we have no further need of testimony, we have heard from his own mouth what he s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:  This farce of a second trial was an effort to make the action they had already taken leg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01:27:58Z</dcterms:created>
  <dc:creator>John Vines</dc:creator>
  <dc:description/>
  <dc:language>en-US</dc:language>
  <cp:lastModifiedBy>Frank D Vines</cp:lastModifiedBy>
  <dcterms:modified xsi:type="dcterms:W3CDTF">2006-09-02T00:20:42Z</dcterms:modified>
  <cp:revision>52</cp:revision>
  <dc:subject/>
  <dc:title>Life of Christ, Part 2 “Sir, We Would See Jesus” </dc:title>
</cp:coreProperties>
</file>